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844-0764-4D1E-A9D8-D9FA4DFF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6C6-5024-425B-87EA-52D4F213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33C-9303-4C4C-A7B0-CF7B7F81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D26-7916-46A5-BC04-63FB62B8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5F21-9521-4167-A352-41658573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A4D1-9140-4CC5-8A80-C4A0BD35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1B7B-EABA-4134-8AAE-339C6787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14AD-B130-4C10-93F5-9B7DA32D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7934-09FF-4ADB-9C83-5A734E72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EF10-C0AE-46FE-8660-9106827C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C173-A7D0-46BC-81B7-498A640E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D5C-65BC-49E8-870F-839335A4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6707-4F67-457B-BAA4-C87BF4C4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8D3F-655D-4332-AD69-84BB4FD5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B19E-DBCA-4EE3-8037-EFB33D8E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8CBE-1ABD-41BA-AB86-FCCC973A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A2AF-D04E-4422-BE95-4CF45F75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462-F76E-4573-B7B2-68F249DF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4BA-C6C9-498E-B728-C4F4E62C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A6B-055F-41DF-ACE4-5E599DCD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828-A411-4C69-B58D-C8DB444F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3B9-BF05-4F6D-A3CF-CA54FAD6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21E-1657-4595-A18D-A7E0D06E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9BA-623E-4001-8B2F-2FA8069A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1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526D-66CC-4BB5-B96F-D0E95080A0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87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Oval 29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132" name="Oval 29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Oval 30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135" name="Oval 30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Oval 31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138" name="Oval 31" descr=""/>
            <p:cNvPicPr/>
            <p:nvPr/>
          </p:nvPicPr>
          <p:blipFill>
            <a:blip r:embed="rId15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Oval 32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141" name="Oval 32" descr=""/>
            <p:cNvPicPr/>
            <p:nvPr/>
          </p:nvPicPr>
          <p:blipFill>
            <a:blip r:embed="rId16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Oval 33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144" name="Oval 33" descr=""/>
            <p:cNvPicPr/>
            <p:nvPr/>
          </p:nvPicPr>
          <p:blipFill>
            <a:blip r:embed="rId17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Oval 34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147" name="Oval 34" descr=""/>
            <p:cNvPicPr/>
            <p:nvPr/>
          </p:nvPicPr>
          <p:blipFill>
            <a:blip r:embed="rId18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Oval 35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150" name="Oval 35" descr=""/>
            <p:cNvPicPr/>
            <p:nvPr/>
          </p:nvPicPr>
          <p:blipFill>
            <a:blip r:embed="rId19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Oval 36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153" name="Oval 36" descr=""/>
            <p:cNvPicPr/>
            <p:nvPr/>
          </p:nvPicPr>
          <p:blipFill>
            <a:blip r:embed="rId20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F420-0B0B-439F-B6ED-4F8E34C863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images.amazon.com/images/P/0688099246.01.LZZZZZZZ.jpg" TargetMode="External"/><Relationship Id="rId3" Type="http://schemas.openxmlformats.org/officeDocument/2006/relationships/hyperlink" Target="http://images.amazon.com/images/P/0688099246.01.LZZZZZZZ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verdana"/>
              </a:rPr>
              <a:t>Genres and literatur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77120" cy="251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verdana"/>
              </a:rPr>
              <a:t>When you speak about genre and literature, </a:t>
            </a:r>
            <a:r>
              <a:rPr b="0" lang="en-US" sz="2000" spc="-1" strike="noStrike" u="sng">
                <a:solidFill>
                  <a:srgbClr val="6600ff"/>
                </a:solidFill>
                <a:uFillTx/>
                <a:latin typeface="verdana"/>
              </a:rPr>
              <a:t>genre means a category, or the type of writing style or forma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verdana"/>
              </a:rPr>
              <a:t>All categories of books or stories can be called eith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fiction</a:t>
            </a:r>
            <a:r>
              <a:rPr b="0" lang="en-US" sz="2800" spc="-1" strike="noStrike">
                <a:solidFill>
                  <a:srgbClr val="6600ff"/>
                </a:solidFill>
                <a:latin typeface="verdana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on-fic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09800" y="1809720"/>
            <a:ext cx="34718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Fic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made up story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n tell about things that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oul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happ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s read for fu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acters may be like real people or imagina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62360" y="1809720"/>
            <a:ext cx="3470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n-Fic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s facts that can be checked and prove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author is an expert on this informatio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verdana"/>
              </a:rPr>
              <a:t>Genre - Subcatego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09800" y="1809720"/>
            <a:ext cx="34718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lkta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antas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yste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oet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storical Fi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alistic Fi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ditional Litera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62360" y="1809720"/>
            <a:ext cx="3470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n-fi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formational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ow to” book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rts and crafts book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iograph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listic fi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an be based on a real stor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aracters act like real peo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aracter tries to solve a proble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ory could happen in real lif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me events are historically accura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aracter’s feelings and behaviors are like real lif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493640" cy="2133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125388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3"/>
          <a:stretch/>
        </p:blipFill>
        <p:spPr>
          <a:xfrm>
            <a:off x="7616880" y="2514600"/>
            <a:ext cx="13748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ntas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560" y="22093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imal characters may act like peop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acters may have special power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acters may be imaginary bein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tting may be in another time (futur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ually has a good vs. evil confli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y use scientific principles not yet available or discover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828800" cy="14619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354492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3544920" y="2567160"/>
            <a:ext cx="2055960" cy="1692000"/>
            <a:chOff x="3544920" y="2567160"/>
            <a:chExt cx="2055960" cy="1692000"/>
          </a:xfrm>
        </p:grpSpPr>
        <p:sp>
          <p:nvSpPr>
            <p:cNvPr id="214" name="Rectangle 7"/>
            <p:cNvSpPr/>
            <p:nvPr/>
          </p:nvSpPr>
          <p:spPr>
            <a:xfrm>
              <a:off x="3544920" y="2567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3544920" y="2567160"/>
              <a:ext cx="2055960" cy="16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5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6" name="Picture 12" descr="0525461221"/>
          <p:cNvPicPr/>
          <p:nvPr/>
        </p:nvPicPr>
        <p:blipFill>
          <a:blip r:embed="rId2"/>
          <a:stretch/>
        </p:blipFill>
        <p:spPr>
          <a:xfrm>
            <a:off x="7086600" y="0"/>
            <a:ext cx="177336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et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ge format may look different than other book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y have rhythm (bea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y rhy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inative and crea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es describing or exciting word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lls a story in ve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457200" y="0"/>
            <a:ext cx="1515960" cy="18288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354492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10"/>
          <p:cNvGrpSpPr/>
          <p:nvPr/>
        </p:nvGrpSpPr>
        <p:grpSpPr>
          <a:xfrm>
            <a:off x="3544920" y="2567160"/>
            <a:ext cx="2055960" cy="1692000"/>
            <a:chOff x="3544920" y="2567160"/>
            <a:chExt cx="2055960" cy="1692000"/>
          </a:xfrm>
        </p:grpSpPr>
        <p:sp>
          <p:nvSpPr>
            <p:cNvPr id="222" name="Rectangle 7"/>
            <p:cNvSpPr/>
            <p:nvPr/>
          </p:nvSpPr>
          <p:spPr>
            <a:xfrm>
              <a:off x="3544920" y="2567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8"/>
            <p:cNvSpPr/>
            <p:nvPr/>
          </p:nvSpPr>
          <p:spPr>
            <a:xfrm>
              <a:off x="3544920" y="2567160"/>
              <a:ext cx="2055960" cy="16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5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4" name="Picture 11" descr=""/>
          <p:cNvPicPr/>
          <p:nvPr/>
        </p:nvPicPr>
        <p:blipFill>
          <a:blip r:embed="rId2"/>
          <a:stretch/>
        </p:blipFill>
        <p:spPr>
          <a:xfrm>
            <a:off x="6781680" y="2819520"/>
            <a:ext cx="1698840" cy="1987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ormation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lls facts that can be looked-up or prov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lls about real ev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acters have really liv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y have maps, diagrams and illustrations to explain the fa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thor is an expert on the subj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7238880" y="2895480"/>
            <a:ext cx="1486080" cy="1981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2"/>
          <a:stretch/>
        </p:blipFill>
        <p:spPr>
          <a:xfrm>
            <a:off x="30492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ditional Literat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ells about the great deeds of a person who </a:t>
            </a:r>
            <a:r>
              <a:rPr b="0" i="1" lang="en-US" sz="2600" spc="-1" strike="noStrike">
                <a:solidFill>
                  <a:srgbClr val="ffffff"/>
                </a:solidFill>
                <a:latin typeface="verdana"/>
              </a:rPr>
              <a:t>may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have liv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ay exaggerate a person’s bravery or powe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obably a long ago sett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tory may be considered a part of the history and culture of a group of peop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agic may be used to solve a proble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 lesson can be learned from the stor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7191360" y="4648320"/>
            <a:ext cx="1428840" cy="19047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361008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0"/>
          <p:cNvGrpSpPr/>
          <p:nvPr/>
        </p:nvGrpSpPr>
        <p:grpSpPr>
          <a:xfrm>
            <a:off x="3610080" y="2606760"/>
            <a:ext cx="1925640" cy="1616040"/>
            <a:chOff x="3610080" y="2606760"/>
            <a:chExt cx="1925640" cy="1616040"/>
          </a:xfrm>
        </p:grpSpPr>
        <p:sp>
          <p:nvSpPr>
            <p:cNvPr id="234" name="Rectangle 7"/>
            <p:cNvSpPr/>
            <p:nvPr/>
          </p:nvSpPr>
          <p:spPr>
            <a:xfrm>
              <a:off x="3610080" y="260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8"/>
            <p:cNvSpPr/>
            <p:nvPr/>
          </p:nvSpPr>
          <p:spPr>
            <a:xfrm>
              <a:off x="3610080" y="2606760"/>
              <a:ext cx="19256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408080"/>
                  </a:solidFill>
                  <a:uFillTx/>
                  <a:latin typeface="verdana"/>
                  <a:hlinkClick r:id="rId2"/>
                </a:rPr>
                <a:t>  </a:t>
              </a:r>
              <a:r>
                <a:rPr b="0" lang="en-US" sz="10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6" name="Picture 9" descr="06880992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76320"/>
            <a:ext cx="139716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21:41:11Z</dcterms:created>
  <dc:creator>dale</dc:creator>
  <dc:description/>
  <dc:language>en-US</dc:language>
  <cp:lastModifiedBy>Dale</cp:lastModifiedBy>
  <cp:lastPrinted>2004-04-29T03:51:19Z</cp:lastPrinted>
  <dcterms:modified xsi:type="dcterms:W3CDTF">2012-10-02T01:00:22Z</dcterms:modified>
  <cp:revision>15</cp:revision>
  <dc:subject/>
  <dc:title>Genres and literature</dc:title>
</cp:coreProperties>
</file>